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0EB0-36BD-4AEB-97A7-86A0441B6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3DF2-862C-4236-B3DF-D8764B9E86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FCB9-79B7-48E0-9D20-9E841DF6EC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C7A1-9CD0-4103-A931-CFB8D37742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E732-1829-42E2-8459-454C85759B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FF18-E81A-4EE5-951B-DF687328A1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3E3-9761-4FD8-88F3-BA92862B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F26-D13B-40FF-93DD-7292CCE7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407-C69F-4AD0-8D6A-ECB38936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17B-67BD-4C7B-9E16-8CF2D640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D224-A4BE-4DDE-96FB-65026E03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15AC-FC67-45B8-ACD9-FB49D0C7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3486-8F9E-4772-A8AC-47A7525C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BE2C-1AD4-4EA8-B347-38252480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3C07-20E2-4FD1-A120-39111155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F018-D64A-479E-9D10-357CF30E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B063-5016-4807-BBBF-AA191488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E97-5464-4688-894A-2296E8DB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48D8-57EF-4321-A147-1BB08377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5E3C-56AF-41B5-A911-07F3651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06DD-3DDC-4B94-9F95-665A9F87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254E-3CEE-4B90-9979-92B3BC1B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92B9-0246-40C7-AA0E-2E889D93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315-73C4-4025-AB68-4A0C24AB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278-F161-4FD2-B163-37103032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2D3-B44F-44ED-AE8D-F0545EC4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1CC-566F-4033-B94B-8ECD833A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7C9-8594-42BC-A95F-3348E6FC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EDC-9D40-4F4E-9D80-EBFF81B3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140-9F55-4BC0-9F75-01CA34A0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E94C-6ED3-4E07-9BF6-398334F10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DEA3-57B4-47FD-87D9-1E562D8326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TOCK INVEST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at the Sound of the B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114264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These are the stocks of the most well established and financially sound companies.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57200" y="4394160"/>
            <a:ext cx="3881520" cy="2409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334120" y="4394160"/>
            <a:ext cx="323676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20" y="576360"/>
            <a:ext cx="9144000" cy="53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 These are the stocks of companies that pay regular and steadily increasing dividends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09480" y="3657600"/>
            <a:ext cx="2511720" cy="2511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327348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956880"/>
            <a:ext cx="876312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These are the stocks of companies whose earnings are expected to grow at an above average rat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3382920" cy="2255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4876920" y="4056120"/>
            <a:ext cx="332244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48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. These are stocks that appreciate in value quickly when economic growth is strong and fall rapidly when economic growth is declining.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6320" y="4800600"/>
            <a:ext cx="2388960" cy="1914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3505320" y="4897440"/>
            <a:ext cx="2286000" cy="171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3"/>
          <a:stretch/>
        </p:blipFill>
        <p:spPr>
          <a:xfrm>
            <a:off x="6629400" y="4897440"/>
            <a:ext cx="2292480" cy="17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31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. These are stocks that remain stable during declines in the econom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2511720" cy="2511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4876920" y="3962520"/>
            <a:ext cx="3273480" cy="245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2-06T20:11:13Z</dcterms:modified>
  <cp:revision>150</cp:revision>
  <dc:subject/>
  <dc:title>D/O: TO EXPLAIN AND IDENTIFY PROBLEMS OF ECONOMICS</dc:title>
</cp:coreProperties>
</file>